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9E8-A3DC-447D-9455-3C5C915D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95F-B604-40C9-8A03-545DCED6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9D6-EBB8-4DDB-88A5-84E7E390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E9E-A7A1-4FCD-8549-4EDC6B31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1B0-F37C-440E-9A14-EE8460BE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54FA-E370-487D-A06E-41CF848F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52F3-D1C5-4A15-98D7-CA6F05CC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5561-2C3E-4B1E-851D-CCBB8286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5FDF-01C1-4179-8FCF-1490FF3F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296E-1995-4D78-B6C0-8AAB1588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6E63-EFCB-4635-87E0-3F374864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EC9F-75E1-4407-B3DF-C5F768F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AF5-E938-4064-B5E6-2BB042A3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003E-7325-4F18-9D49-59392606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6DA6-1D37-4445-BE99-81EE843B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5B94-FFEE-4A66-A131-37E69D85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C538-31EB-4C97-B1E0-063B1B49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5C27-D042-41A6-88A9-C3A317B7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6A7-B41D-4B78-97F8-0AE30E71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AFE-4E00-43CC-A404-A940326A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8DA-A800-476E-A76B-E8ED60C5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DAF-4A74-4CBB-B425-037E0000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37A-FA48-4542-A407-CD8AC1BF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7CC-65C6-4298-8EA4-F3DF5E7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66B-DEAB-4BDA-85EF-00E5E004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7C77-CADF-40FF-87E2-DC9CD6C648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DBFB-D4E5-470B-9BCD-3D7C2DC713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Sear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CI 2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leen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9528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43040"/>
                <a:gridCol w="742680"/>
                <a:gridCol w="743040"/>
                <a:gridCol w="743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880" y="2855880"/>
            <a:ext cx="37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98108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43040"/>
                <a:gridCol w="742680"/>
                <a:gridCol w="743040"/>
                <a:gridCol w="743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000" y="2855880"/>
            <a:ext cx="45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81952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176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9120" y="2855880"/>
            <a:ext cx="52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0532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176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5880" y="2855880"/>
            <a:ext cx="60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19112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176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2640" y="2855880"/>
            <a:ext cx="68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19112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176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2640" y="2855880"/>
            <a:ext cx="68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95288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838080"/>
                <a:gridCol w="685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0120" y="2855880"/>
            <a:ext cx="74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aightforward string sear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 c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tern string always matches completely except for last charac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: search for XXXXXXY in target string of XXXXXXXXXXXXXXXXXXX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er loop executed once for every character in target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ner loop executed once for every character in patter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|p| * |t|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kay if patterns are short, but better algorithms ex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|p| * |t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pattern fails to match, slide pattern to right by as many boxes as possible without permitting a match to go unnotic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9718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      p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3505320"/>
          <a:ext cx="3657600" cy="609480"/>
        </p:xfrm>
        <a:graphic>
          <a:graphicData uri="http://schemas.openxmlformats.org/drawingml/2006/table">
            <a:tbl>
              <a:tblPr/>
              <a:tblGrid>
                <a:gridCol w="685800"/>
                <a:gridCol w="742680"/>
                <a:gridCol w="738360"/>
                <a:gridCol w="728640"/>
                <a:gridCol w="762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5812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81080" y="4876920"/>
          <a:ext cx="3657600" cy="58392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762120"/>
                <a:gridCol w="761760"/>
                <a:gridCol w="685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05740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14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word processor facility is to search for a given word in a document.   Generally, the problem is to search for occurrences of a short string in a long str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ing 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343400"/>
            <a:ext cx="63882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2000" y="4343400"/>
            <a:ext cx="639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Do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the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 first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the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n do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the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 o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the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343400"/>
            <a:ext cx="6728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000" y="434340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 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motion of pattern depends on both location of mismatch and the mismatching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=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: move 2 boxes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=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 move 5 boxes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=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: target found; alg term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determine d, number of boxes to right pattern should move; smallest d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[0] = t[k+d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[1] = t[k+d+1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[2] = t[k+d+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[i-d] = t[k+i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can be stated largely in terms of pattern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d depends only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atter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value of 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ismatching character c (at t[k+i]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efine a function KMPskip(p,i,c) to give correct 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urn smallest integer d such that 0 &lt;= d &lt;=I, such that p[i-d] == c and p[j] == p[j+d] for each 0 &lt;=j &lt;= i-di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urn i+1 if no such d exi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ll values of KMPskip for pattern p and store it in KMPskip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lookup at each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181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ttern ABC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28800" y="2971800"/>
          <a:ext cx="2895480" cy="3083040"/>
        </p:xfrm>
        <a:graphic>
          <a:graphicData uri="http://schemas.openxmlformats.org/drawingml/2006/table">
            <a:tbl>
              <a:tblPr/>
              <a:tblGrid>
                <a:gridCol w="723960"/>
                <a:gridCol w="723600"/>
                <a:gridCol w="723960"/>
                <a:gridCol w="723960"/>
              </a:tblGrid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134800" y="23176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    B     C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2971800"/>
            <a:ext cx="137160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ttern XYXY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09680" y="2666880"/>
          <a:ext cx="3657600" cy="3540240"/>
        </p:xfrm>
        <a:graphic>
          <a:graphicData uri="http://schemas.openxmlformats.org/drawingml/2006/table">
            <a:tbl>
              <a:tblPr/>
              <a:tblGrid>
                <a:gridCol w="731520"/>
                <a:gridCol w="731520"/>
                <a:gridCol w="731520"/>
                <a:gridCol w="731520"/>
                <a:gridCol w="73152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2180880" y="209700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    Y      X   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27432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2743200"/>
            <a:ext cx="114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KMPSearch(st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i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return its location or -1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a substr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MPskiparray &lt;- ComputeKMPskiparray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 &lt; Length(t) – 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== 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MPskiparray[I,t[k+i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 &lt;- k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&lt;- I + 1 –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Boyer-Moore Algori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KMP in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ttern compared against tar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mismatch, move as far to right as 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rom KMP in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re the patterns from right to left instead of left to r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at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es!! – much faster on long targets; many characters in target string are never examined at 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5720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43040"/>
                <a:gridCol w="742680"/>
                <a:gridCol w="743040"/>
                <a:gridCol w="743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8120" y="285588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5181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E in the pattern : thus the pattern can’t match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racters lie under t[3].  So, move four boxe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429000" y="3429000"/>
          <a:ext cx="3048120" cy="53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97180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51814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no match.  But there is a B in the pattern.  So move two boxe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story of String 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ute force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nted in the dawn of computer his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-invented many times,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stil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uth &amp; Pratt invented a better one in 1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nted independently by Morr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blished 1976 as “Knuth-Morris-Pratt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er &amp; Moore found a better one before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nd independently by Gos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p &amp; Rabin found a “better” one in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02920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76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25960" y="289548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055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: another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[k]    t[k+1]    …                t[k+i]                                 t[k+m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219320" y="3429000"/>
          <a:ext cx="6705360" cy="53352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838440"/>
                <a:gridCol w="685800"/>
                <a:gridCol w="761760"/>
                <a:gridCol w="762120"/>
                <a:gridCol w="762120"/>
                <a:gridCol w="685800"/>
                <a:gridCol w="76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289548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…       p[i-1]      p[i]     p[i+1]    …                 p[m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952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determine d, the number of  boxes that the pattern can be moved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9436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should be smallest integer such that t[k+m-1]= p[m-1-d], t[k+m-2] = p[m-2-d], … t[k+i] = p[i-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Boyer-Moore Algori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 should be smallest integer such tha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[k+m-1] = p[m-1-d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[k+m-2] = p[m-2-d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[k+i] = p[i-d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inder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 = starting index in target st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 = length of patter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 = index of mismatch in pattern st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blem: statement is valid only for d&lt;= 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to ensure that we don’t “fall off” the left edge of the patter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: another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k]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t[k+5]                                 t[k+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1219320" y="3429000"/>
          <a:ext cx="6705360" cy="53352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838440"/>
                <a:gridCol w="685800"/>
                <a:gridCol w="761760"/>
                <a:gridCol w="762120"/>
                <a:gridCol w="762120"/>
                <a:gridCol w="685800"/>
                <a:gridCol w="76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89548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p[2]      p[3]     p[4]     p[5]      p[6]      p[7]    p[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181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 == W, then d should b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58672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 == R, then d should b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MPSk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charac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0&lt;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def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MPSkip(p,i,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mount the pattern can move to the right when characters i+1 through m-1 of the pattern match corresponding characters in the target but p[i] doesn’t match character 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BMPSkip(p,I,c) should return the smallest d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[j]= p[j-d]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or all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max(i+1,d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&lt;=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[i-d]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&lt;= 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181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ttern ABC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828800" y="2971800"/>
          <a:ext cx="2895480" cy="3083040"/>
        </p:xfrm>
        <a:graphic>
          <a:graphicData uri="http://schemas.openxmlformats.org/drawingml/2006/table">
            <a:tbl>
              <a:tblPr/>
              <a:tblGrid>
                <a:gridCol w="723960"/>
                <a:gridCol w="723600"/>
                <a:gridCol w="723960"/>
                <a:gridCol w="723960"/>
              </a:tblGrid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134800" y="23176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    B     C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2971800"/>
            <a:ext cx="137160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25146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- if the position in the pattern is this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971800"/>
            <a:ext cx="114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mis-matching  character in the target is this -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kip this many spac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ttern XYXY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209680" y="2666880"/>
          <a:ext cx="3657600" cy="3540240"/>
        </p:xfrm>
        <a:graphic>
          <a:graphicData uri="http://schemas.openxmlformats.org/drawingml/2006/table">
            <a:tbl>
              <a:tblPr/>
              <a:tblGrid>
                <a:gridCol w="731520"/>
                <a:gridCol w="731520"/>
                <a:gridCol w="731520"/>
                <a:gridCol w="731520"/>
                <a:gridCol w="73152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2180880" y="209700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    Y      X   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27432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2743200"/>
            <a:ext cx="114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2286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f the position in the pattern is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743200"/>
            <a:ext cx="121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mis-matching character in the target is this --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kip this many sp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ies in the Boyer-Moore arrays are generally larger than with KMP; thus, the pattern will 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not consulted on a match (thus, the blank en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M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M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r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,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i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return its location or -1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a substr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MSkiparray &lt;- ComputeBMSkipArray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-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gth(t) – Length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gth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= 0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[i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[k+i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= -1 then retur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MSkiparray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t[k+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Karp-Rabin Algorithm Id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p &amp; Rabin found an algorithm which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most as fast as Boyer-Mo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mple enough to understand easi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be adapted for 2-dimensional searches for patterns in pic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4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back to the brute force idea, but now use a single number to represent the word you are searching for, and a single number for the current portion of the document you are comparing again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vious algorithm is to try the word at each possible place, and compare all the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  </a:t>
            </a: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:= </a:t>
            </a: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to  </a:t>
            </a: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n-m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do</a:t>
            </a:r>
            <a:r>
              <a:rPr b="0" lang="en-US" sz="2500" spc="-1" strike="noStrike">
                <a:solidFill>
                  <a:srgbClr val="ffc5c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c5c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(doc length 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35000"/>
              </a:lnSpc>
              <a:spcBef>
                <a:spcPts val="575"/>
              </a:spcBef>
              <a:spcAft>
                <a:spcPts val="86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for  </a:t>
            </a:r>
            <a:r>
              <a:rPr b="0" i="1" lang="en-US" sz="2600" spc="-1" strike="noStrike">
                <a:solidFill>
                  <a:srgbClr val="ff0000"/>
                </a:solidFill>
                <a:latin typeface="Book Antiqua"/>
              </a:rPr>
              <a:t>j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 := </a:t>
            </a:r>
            <a:r>
              <a:rPr b="0" i="1" lang="en-US" sz="2600" spc="-1" strike="noStrike">
                <a:solidFill>
                  <a:srgbClr val="ff0000"/>
                </a:solidFill>
                <a:latin typeface="Book Antiqua"/>
              </a:rPr>
              <a:t>0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  to  </a:t>
            </a:r>
            <a:r>
              <a:rPr b="0" i="1" lang="en-US" sz="2600" spc="-1" strike="noStrike">
                <a:solidFill>
                  <a:srgbClr val="ff0000"/>
                </a:solidFill>
                <a:latin typeface="Book Antiqua"/>
              </a:rPr>
              <a:t>m-1 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do</a:t>
            </a:r>
            <a:r>
              <a:rPr b="0" lang="en-US" sz="2600" spc="-1" strike="noStrike">
                <a:solidFill>
                  <a:srgbClr val="ffc5cf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ffc5cf"/>
                </a:solidFill>
                <a:latin typeface="Book Antiqua"/>
              </a:rPr>
              <a:t>	</a:t>
            </a:r>
            <a:r>
              <a:rPr b="0" lang="en-US" sz="2300" spc="-1" strike="noStrike">
                <a:solidFill>
                  <a:srgbClr val="0000ff"/>
                </a:solidFill>
                <a:latin typeface="Book Antiqua"/>
              </a:rPr>
              <a:t>(word length 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35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35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compare 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word[j]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with 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doc[i+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35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35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if not equal, exit the inne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xity is at wors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m*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es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Karp-Rabin Algori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are searching for 4-letter words. Then the whole (English) word fits in one (computer) word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4 bytes.  If the current 4 bytes of the document are also in one word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single comparison can match the two in one step.  To move along the document, shift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dd in the next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nger words, use hashing.  The characters of the word and the document are combined into single hash numbers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hash number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pdated by doing a suitable sum and adding in the code for the next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roving String 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14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ly, there is a faster algorithm where you compare the last characters fir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048120"/>
            <a:ext cx="63882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84960" y="2971800"/>
            <a:ext cx="639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Do 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the first then do the othe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3657600"/>
            <a:ext cx="6732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5960" y="358128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0" y="3962520"/>
            <a:ext cx="685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compare</a:t>
            </a:r>
            <a:r>
              <a:rPr b="0" lang="en-US" sz="2400" spc="-1" strike="noStrike">
                <a:solidFill>
                  <a:srgbClr val="ffc5c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‘e’ with ‘  ‘, fail so move along 3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9480" y="4730760"/>
            <a:ext cx="63878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30760" y="4708440"/>
            <a:ext cx="639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Do the fi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rst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 then do the othe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25640" y="5264280"/>
            <a:ext cx="6732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06560" y="524196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7200" y="5241960"/>
            <a:ext cx="437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can only move along 2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roved string search, continu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case where the document character is not one of the characters in the word, we can move along m places.  Sometimes, it is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blem Definition, termin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pattern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target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k be the index of the character in the target string that “lies over” the first character of the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string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ver the alphab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termine whether p occurs as the substring of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determine whether there exis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Substrin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aightforward string sear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ing p,t)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Fi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return its location or -1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 substring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0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(t) – 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&lt;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 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[i] = t[k+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&lt;- 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=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5720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43040"/>
                <a:gridCol w="742680"/>
                <a:gridCol w="743040"/>
                <a:gridCol w="743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8120" y="285588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8:44:43Z</dcterms:created>
  <dc:creator>Eileen Kraemer</dc:creator>
  <dc:description/>
  <dc:language>en-US</dc:language>
  <cp:lastModifiedBy>Visualization Lab</cp:lastModifiedBy>
  <dcterms:modified xsi:type="dcterms:W3CDTF">2005-03-20T04:05:01Z</dcterms:modified>
  <cp:revision>11</cp:revision>
  <dc:subject/>
  <dc:title>String Searching</dc:title>
</cp:coreProperties>
</file>